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564-55E5-4686-AEAA-73B4057E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E0F-64EA-474A-B642-E7D7DCAC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4A7-6405-45F1-9C8D-2C97480C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749-6C49-4EC8-A3F8-5D598800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9B00-EF39-4D5B-A095-BA69E3AB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0B31-DEE7-44C0-AD39-F6E5F9C4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539A-352A-4CA6-95DD-55A1E8F7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1C1E-6EF7-40DC-B599-90A9F59D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F2EE-35C5-4FFE-96A3-AADAAD7E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41EB-DBF4-46EC-8A6D-2A9D545E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D483-F77D-4401-9E17-9C442C92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939-3DE6-4183-B86C-49E641EE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D3F2-370D-448F-A378-D3E06FB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8101-85EC-4185-A511-9471D0A2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F2F9-3DD4-4655-AD91-1AF88115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20F0-DF49-4A9F-97DE-A57C71C0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9DAD-8095-4FE9-8DED-BA2F716C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B8648-B7D1-47B9-98F7-BC76D1C0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8CAAA-1E43-4FF9-A7C6-774526BD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D328B-754C-4A2A-96B7-634B3EBC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2F3DE-26E3-4BC3-B408-C2234CD9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696A-9D31-4297-A5CF-31416C8B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41A-D2AD-4CF7-8D00-4710C85F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F7E6-9CC7-4CCE-9BF2-A7B61833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3AB76-D2F2-4148-9324-8B246C14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9A6A7-F530-44D6-B180-5968022A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CAF7F-6ED3-4BE6-A4C9-8CAFB8E5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739E7-E83F-405E-BBDD-B3FD5D18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75C8-B3DC-4E51-9CB1-12C024D7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0D324-FCA1-45FE-8642-6446861D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66B36-AB8A-4BE5-A77B-0CCEB9DC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1D8D2-5487-4980-A78F-3A10DD1C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E738F-CF72-4BF3-BDA5-751198EB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D35-9281-4152-91E1-0D9B816A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66D0C-9FA5-45EE-BD04-7FDFAACB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B46AB-18C3-42CB-8CDD-FD749CA3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AA2C2-3D47-46C7-B7D1-3AA00F0A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9F232-FEF5-4AA7-AFD1-DCB0C1EB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F7F93-7BE5-4AE3-ABA3-6DE96EE7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5A956-668C-44F1-96DA-32662F99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C0670-EEF8-4AE1-91E3-14B9C542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73C38-573C-4355-ACD2-46C997E9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E1A96-E48A-41FC-826A-28A7426A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AEB22-8430-4CDB-BDC2-270D546C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2D7-ACB6-4D34-A67C-B97E1383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01A29-49D5-4A89-AF5F-A02E0A61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43AFC-82D9-4DE9-B37D-B4FC2DB3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D4A98-B236-44C3-8773-F553BB0C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4CDA3-C28E-48B3-96F5-E61FF280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A2F4A-AE02-4D48-8ECC-E9836293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7BE28-6A41-4166-A40A-8AFAB506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232C7-2928-40BA-874B-F070259D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911BF-5ECF-49DB-B90E-6D4657EE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F40C7-C18C-48CC-8ADD-298B7076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FB553-EC42-45E9-9049-75661D57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8E5-1EB8-4C7A-9B67-27637B81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69EC3-EDEF-44A1-83CB-EF28EB97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B4E-E17A-4E60-B250-BFA28F49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690-9665-41FC-AA30-6F025440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E464-D7B6-4E90-B7DA-A990AF67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FE82-AE88-44D4-BD26-43F5DC1CC8E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99C1-4470-4F65-AAE5-1797A2723E9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0828-58CE-4CAE-8188-F2941B8BCBF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3E6E-8022-4E9B-B8E1-FFCDE36E695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7A8F-CF93-40F9-8169-93169AAAECD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682560" y="1481040"/>
            <a:ext cx="833292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</a:rPr>
              <a:t>Chapter 1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</a:rPr>
              <a:t>Marketing 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</a:rPr>
              <a:t>MR21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3733920" y="3429000"/>
            <a:ext cx="3504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1 - Identify Constraints and Objectives  cont.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Constrains establish the upper and lower bound for a price that can be charged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ere &amp; how a product is priced within that lower and upper bound depends on the Objectives of the organiz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1 - Identify Constraints and Objectives  cont.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bj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various objectives that an organization has in order to set its prices depend on several factor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wanting to maximize profi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wanting to maximize Sales revenu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trying to maximize Market shar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trying to sell a lot of produc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trying to maximize consumer valu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trying to be socially responsibl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r, finally are they just trying to survive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2; Estimate Demand and Project Revenue at that demand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Demand for a product is a function of two major types of thing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1) The price of the product -- Usually the higher the price the lower the dema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) Factors other than price, such as consumer tastes, consumer income or the availability and price of other similar or substitutable produc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2; Estimate Demand and Project Revenue at that demand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A Demand Schedule and a Demand Curve reflecting quantity demanded at different  price level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75" name="Object 5"/>
          <p:cNvGraphicFramePr/>
          <p:nvPr/>
        </p:nvGraphicFramePr>
        <p:xfrm>
          <a:off x="990720" y="2819520"/>
          <a:ext cx="320040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200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Line 7"/>
          <p:cNvSpPr/>
          <p:nvPr/>
        </p:nvSpPr>
        <p:spPr>
          <a:xfrm>
            <a:off x="518148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"/>
          <p:cNvSpPr/>
          <p:nvPr/>
        </p:nvSpPr>
        <p:spPr>
          <a:xfrm>
            <a:off x="5181480" y="55627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5943600" y="2743200"/>
            <a:ext cx="17524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44956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601992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502920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502920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5029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16"/>
          <p:cNvSpPr/>
          <p:nvPr/>
        </p:nvSpPr>
        <p:spPr>
          <a:xfrm>
            <a:off x="5486400" y="5562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502920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20"/>
          <p:cNvSpPr/>
          <p:nvPr/>
        </p:nvSpPr>
        <p:spPr>
          <a:xfrm>
            <a:off x="50292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2; Estimate Demand and Project Revenue at that demand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A Demand Schedule and a Demand Curve reflecting a shift in the demand curve brought about by a change in quantity demanded because of non price changes. Assume that the product becomes “trendy”.  Relative qty. demanded at any given price point goes up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0" name="Object 6"/>
          <p:cNvGraphicFramePr/>
          <p:nvPr/>
        </p:nvGraphicFramePr>
        <p:xfrm>
          <a:off x="685800" y="4114800"/>
          <a:ext cx="3886200" cy="20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14800"/>
                    <a:ext cx="38862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Line 10"/>
          <p:cNvSpPr/>
          <p:nvPr/>
        </p:nvSpPr>
        <p:spPr>
          <a:xfrm>
            <a:off x="518148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5181480" y="55627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5943600" y="2743200"/>
            <a:ext cx="17524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601992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502920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502920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16"/>
          <p:cNvSpPr/>
          <p:nvPr/>
        </p:nvSpPr>
        <p:spPr>
          <a:xfrm>
            <a:off x="5029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17"/>
          <p:cNvSpPr/>
          <p:nvPr/>
        </p:nvSpPr>
        <p:spPr>
          <a:xfrm>
            <a:off x="5486400" y="5562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18"/>
          <p:cNvSpPr/>
          <p:nvPr/>
        </p:nvSpPr>
        <p:spPr>
          <a:xfrm>
            <a:off x="502920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19"/>
          <p:cNvSpPr/>
          <p:nvPr/>
        </p:nvSpPr>
        <p:spPr>
          <a:xfrm>
            <a:off x="50292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7010280" y="2514600"/>
            <a:ext cx="16765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22"/>
          <p:cNvSpPr/>
          <p:nvPr/>
        </p:nvSpPr>
        <p:spPr>
          <a:xfrm flipV="1">
            <a:off x="6553080" y="28951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Line 23"/>
          <p:cNvSpPr/>
          <p:nvPr/>
        </p:nvSpPr>
        <p:spPr>
          <a:xfrm flipV="1">
            <a:off x="754380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24"/>
          <p:cNvSpPr/>
          <p:nvPr/>
        </p:nvSpPr>
        <p:spPr>
          <a:xfrm>
            <a:off x="457200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25"/>
          <p:cNvSpPr/>
          <p:nvPr/>
        </p:nvSpPr>
        <p:spPr>
          <a:xfrm>
            <a:off x="640080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shifts 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2; Estimate Demand and Project Revenue at that deman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erms to Kn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otal reve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verage reve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arginal reve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lasticity of dem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3 - Determine a cost-profit, cost -volume relationship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MARGINAL ANALY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One way an organization can determine whether it is maximizing its potential profit is to calculate its marginal costs and marginal revenues from one level of output to the nex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en marginal costs equal marginal revenue (MR=MC) stop producing/selling any more  (Why?: It costs as much to make that extra unit as the extra revenue selling that unit will bring in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3 - Determine a cost-profit, cost -volume relationship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BREAK EVEN ANALY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is determines the level of production/sales required in order for a company to stop loosing money,  break-even and start making mone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o calculate the break even point (in units) you need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OTAL FIXED CO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UNIT VARIABLE COS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LLING PRICE PER UN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3 - Determine a cost-profit, cost -volume relationship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BREAK EVEN ANALY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Break Even Point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=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nstantia"/>
              </a:rPr>
              <a:t>Fixed Co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(Selling Price per unit  - Unit Variable cost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3 - Determine a cost-profit, cost -volume relationship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BREAK EVEN CH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1371600" y="2895480"/>
            <a:ext cx="0" cy="2895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1371600" y="5715000"/>
            <a:ext cx="7391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1295280" y="50292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Line 7"/>
          <p:cNvSpPr/>
          <p:nvPr/>
        </p:nvSpPr>
        <p:spPr>
          <a:xfrm flipV="1">
            <a:off x="1371600" y="2819520"/>
            <a:ext cx="7086600" cy="2209680"/>
          </a:xfrm>
          <a:prstGeom prst="line">
            <a:avLst/>
          </a:prstGeom>
          <a:ln w="5724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5013360" y="2743200"/>
            <a:ext cx="19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tal Cost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5318280" y="46134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xed Cost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6172200" y="3774960"/>
            <a:ext cx="35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. Cost Compon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1371600" y="5029200"/>
            <a:ext cx="7391520" cy="6858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3505320" y="5334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xed Cost Compon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990720" y="5715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7621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4343400" y="5715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much should it cos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es Marine Atlantic arrive at the cost of a ticket to take the Ferry from NL to N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4" descr="route_map"/>
          <p:cNvPicPr/>
          <p:nvPr/>
        </p:nvPicPr>
        <p:blipFill>
          <a:blip r:embed="rId1"/>
          <a:stretch/>
        </p:blipFill>
        <p:spPr>
          <a:xfrm>
            <a:off x="2819520" y="2743200"/>
            <a:ext cx="1724040" cy="1555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5105520" y="3200400"/>
            <a:ext cx="33526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actor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rastructure - Ship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si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2"/>
          <a:srcRect l="1708" t="12001" r="59835" b="35626"/>
          <a:stretch/>
        </p:blipFill>
        <p:spPr>
          <a:xfrm>
            <a:off x="685800" y="3505320"/>
            <a:ext cx="2666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re are 4 basic methods used to set an approximate price leve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Demand Based Metho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ost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rofit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ompetitive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Demand Based Metho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The price that is picked is set based on the projected demand for the product.  Specific strategies include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Skimming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High price -low volum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Penetration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lower price-high volume)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Prestige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similar to skimming with snob appeal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560" y="20570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emand Based Metho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(cont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Price lin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Offering different models with different prices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Odd-even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Setting prices with odd numbers $499.99 sounds &amp; feels better than $500.00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Demand Backward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Predict sales, set Total revenue target  take total revenue/sales in units = pric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Bundle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Offering a bundle of complementary products for a single package price - vacation packag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Value-Based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Increase benefits offered for a same or lower pric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9047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ost Based Metho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The price is set based on the approximated cost of bringing the product to mark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Mark up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 The cost of the product is the basis for which the price calculation is based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tandard Mark up  &amp; Cost Plus pricing add a fixed percentage or a fixed amount to the cost to arrive at a pri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Experience Curve Pricing 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 As you get better at making products the time and cost to make each one is reduced -- therefore the price can be reduced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rofit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arget Profit Pricing (see calculations in text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arget Return on Sa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arget Return on Investment Pric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ompetition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Customary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Charge a price that is the “usual” price in the industry.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Above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-Below Market Price (Charge a price that differs from the industry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Loss-Leader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Sell a promoted item at a loss or low price -- the intent is to attract customers to buy this product and in the process they will buy other regular priced items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Sealed Bid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Same as a “Tender” - Suppliers are invited to bid to supply specified product(s) and the lowest bid price wins the deal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ep 5 - Set a List Pr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Based on all of the analysis done thus far in the process a “List” price can be determined.  The list price is a suggested price and may not truly reflect the price charged to all customer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Customer, Company and Competitive factors may come into play in determining whether or not a company deviates from its list pric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6 - Adjustments to the List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pecial Adjustments to the List or Quoted Pric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iscou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llowa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Geographical Adjust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6 - Adjustments to the List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scounts - reductions in the list price based on some of the following reas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asona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aying Cas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6 - Adjustments to the List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llowances - An effective reduction in the unit price based on some of the following reas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 trade in allow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 promotional allow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ice is.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nstantia"/>
              </a:rPr>
              <a:t>The money or other consideration exchange for ownership or use of a good or servic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6 - Adjustments to the List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560" y="2133360"/>
            <a:ext cx="883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Geographical Adjustments - an effective reduction or increase in the unit list price because of your geographical location relative to the suppli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Free-on-Board (FOB) pricin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They will put it on the truck but you pay for the shipping co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Uniform Delivery pricin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 Price is the same wherever you live -- the supplier pays the shipp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Legal Aspects of Setting Pr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Price fixing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- several suppliers colluding to raise prices - illeg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Price Discrimination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- Charging one price to one customer and another price to another for no reason - illeg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Deceptive Pricing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- Falsifying the true price of the item - deceiving the customer - illeg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ice &amp; Valu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rice is a fixed ter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alue is a relative term that is measured by the consume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Value is the ratio of perceived benefits offered to price charged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ice is made up of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Sticker (list) pr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scounts offered 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(Sales, Mark-downs, Volum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llowances offered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(Trade in Allowance, case allowan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lu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axes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(HST, GST, PS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ofit is.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tal Revenue (Price x Quanti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tal Cost (Fixed Costs + Variable Cost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The Steps Involved in </a:t>
            </a:r>
            <a:br>
              <a:rPr sz="4500"/>
            </a:b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etting a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1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dentify Pricing Constraints and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2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stimate Demand and Estimate Reve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3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etermine Cost-Volume and Profit relationshi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4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lect a Approximate Price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5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lect a list p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6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ake special Adjustments to Quote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1 - Identify Constraints and Objectiv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traints are practical limits under which a company must set its price range for a produ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traints inclu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Demand for the actual product, its class of product or the demand for the Brand na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ewness of the product -- where it is in the life cy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 single product limits the range of prices that can be charged, whereas a line of products can be offered at different prices depending on the mod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1 - Identify Constraints and Objectives  cont.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traints include: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cost of making and marketing the produ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costs involved in changing the prices once they are se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type of competitive market that exists.  Little competition means prices can be set by the seller whereas heavy competition means that the market sets the prices and as a result prices will tend to go dow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What other similar products sell for limits the range of price that can be charg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7:29:51Z</dcterms:created>
  <dc:creator>Debbie Vincent</dc:creator>
  <dc:description/>
  <dc:language>en-US</dc:language>
  <cp:lastModifiedBy>paul.tilley</cp:lastModifiedBy>
  <dcterms:modified xsi:type="dcterms:W3CDTF">2011-02-21T18:29:18Z</dcterms:modified>
  <cp:revision>11</cp:revision>
  <dc:subject/>
  <dc:title>Pricing:  Relating Objectives to revenues and Cos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